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124B-02D6-42F5-9DC6-C62384ECADF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hdr"/>
          </p:nvPr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ardworks AS Bi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BBCA-7DD8-413A-94E7-D076FBCD2E3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337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AAB-CB01-458B-9493-79A033E90D4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the SAN is damaged, the AVN can take over as pacemaker, but it works at a lower frequency than the S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35AB-BDB7-49E5-83A4-1611AAAE051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C33-9E78-437A-BD40-51B4F240F8B9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emakers may be temporary (in which case the main pacemaker unit is usually external) or perma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ent pacemakers are commonly implanted beneath subcutaneous fat in the chest. The electrodes are inserted into a vein and passed through to be attached into the appropriate chamber(s)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862-13C6-4FFA-88FD-3AEBDBFD8D6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BE73-BD3F-4DA0-AE89-F79A6035230F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h Ally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12-lead ECG is the most common ECG performed, although only 10 electrodes are attached to a patient – one on each limb by the wrist/ankle, and six at various points on the ch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4541-8CE6-490C-A27A-D8DD78F9B5A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repolarization of the atria cannot be seen as the current is very small and masked by the QRS compl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06AF-3578-41BF-A509-B3B92F96CBFD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hoto credi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ch Allyn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-based exercise stress system with PC and treadmill, including 12-lead stress test system and Welch Allyn CardioPerfect Workstation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the ‘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ifestyle and Dise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’ presentation for more information about heart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927E-610A-4827-8AD2-F66255AB2E4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activity contains only a small selection of abnormal ECG traces, and the examples shown may be associated with a range of other heart conditions not mentio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ventricular hypertrophy occurs naturally with age but may be a sign of hypertension cardiovascular disease, and can lead to heart fai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ibrillation is the use of small, targeted electrical shocks to re-establish a normal sinus rhythm in an arrhythmic heat, usually one in VF. It cannot be used to restore electrical activity in an asystolic heart (one with a ‘flat line’ ECG tr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46AD-C9A3-4E5A-B89B-9842A96458C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traction of the atria only accounts for about 30% of the ventricular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 a fraction of a second as the ventricles start to contract, all valves in the heart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EFB54-4B51-4D03-908C-E400B1399D8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1D53-E857-4336-A882-D101F9AF3CE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8851-C522-4755-AB0E-7FE48EB7162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1574640" y="88920"/>
            <a:ext cx="383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oardworks AS Biology 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N sets the base heart rate, but the rate is controlled via the C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176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2176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1760" y="54000"/>
            <a:ext cx="724068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1" descr="slide bground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Text Box 48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FAF-296F-4495-B02F-87D62301C52E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1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" name="Text Box 49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8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3" name="Picture 50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5" name="Picture 60" descr="forward_arrow_grey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slide bground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0119-3E7B-47DD-9628-00CA43AFBF56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1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8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45" name="Picture 5" descr="back_arrow_trans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10800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2" descr="title_slide_heart_part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9"/>
          <p:cNvSpPr/>
          <p:nvPr/>
        </p:nvSpPr>
        <p:spPr>
          <a:xfrm>
            <a:off x="896760" y="6654960"/>
            <a:ext cx="65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40D5-E12E-43EC-B0D0-0F3D06F04C1F}" type="slidenum"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&lt;number&gt;</a:t>
            </a:fld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 of 13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6445080" y="66549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5b0091"/>
                </a:solidFill>
                <a:latin typeface="Arial"/>
                <a:ea typeface="Arial"/>
              </a:rPr>
              <a:t>© Boardworks Ltd 2008</a:t>
            </a:r>
            <a:endParaRPr b="0" lang="en-US" sz="10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86" name="Picture 21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JzJKvkWWDc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Myogenic stimulation of th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67" name="Picture 4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notes_icon"/>
          <p:cNvPicPr/>
          <p:nvPr/>
        </p:nvPicPr>
        <p:blipFill>
          <a:blip r:embed="rId2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Interactiv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73" name="Picture 4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2" descr="heart pacemaker"/>
          <p:cNvPicPr/>
          <p:nvPr/>
        </p:nvPicPr>
        <p:blipFill>
          <a:blip r:embed="rId1"/>
          <a:stretch/>
        </p:blipFill>
        <p:spPr>
          <a:xfrm>
            <a:off x="4900680" y="3084480"/>
            <a:ext cx="4067280" cy="2925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Artificial pacemakers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63400" y="784080"/>
            <a:ext cx="858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Artificial pacemaker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re devices implanted in people whose heart’s electrical conduction system is not working properly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63400" y="212580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roblems include the SAN not firing, and the blockage or disruption of impulses between the SAN and AVN, or in the bundle of Hi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63400" y="3467160"/>
            <a:ext cx="4329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Pacemakers monitor the heart’s electrical activity and stimulate the ventricles or atria to contract when necessary. Impulses are transmitted down electrodes implanted in the muscular wall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82" name="Picture 13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notes_icon"/>
          <p:cNvPicPr/>
          <p:nvPr/>
        </p:nvPicPr>
        <p:blipFill>
          <a:blip r:embed="rId3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The cardiac cycl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85" name="Picture 5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37" descr="ECG1"/>
          <p:cNvPicPr/>
          <p:nvPr/>
        </p:nvPicPr>
        <p:blipFill>
          <a:blip r:embed="rId1"/>
          <a:stretch/>
        </p:blipFill>
        <p:spPr>
          <a:xfrm>
            <a:off x="4560840" y="1647720"/>
            <a:ext cx="4286160" cy="4286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What are electrocardiograms?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91" name="Text Box 1028"/>
          <p:cNvSpPr/>
          <p:nvPr/>
        </p:nvSpPr>
        <p:spPr>
          <a:xfrm>
            <a:off x="563400" y="784080"/>
            <a:ext cx="783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electrical activity of the heart can be monitored by an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electrocardiograph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2" name="Text Box 1029"/>
          <p:cNvSpPr/>
          <p:nvPr/>
        </p:nvSpPr>
        <p:spPr>
          <a:xfrm>
            <a:off x="563400" y="1886040"/>
            <a:ext cx="4021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Several electrodes are attached to specific places on a person’s chest and limbs. These detect changes in polarization in the heart by measuring current at the skin surfac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93" name="Text Box 1031"/>
          <p:cNvSpPr/>
          <p:nvPr/>
        </p:nvSpPr>
        <p:spPr>
          <a:xfrm>
            <a:off x="563400" y="48448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leads are connected to a machine that draws an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electrocardiogram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ECG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94" name="Picture 1038" descr="notes_icon"/>
          <p:cNvPicPr/>
          <p:nvPr/>
        </p:nvPicPr>
        <p:blipFill>
          <a:blip r:embed="rId2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039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Components of an ECG trac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97" name="Picture 7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notes_icon"/>
          <p:cNvPicPr/>
          <p:nvPr/>
        </p:nvPicPr>
        <p:blipFill>
          <a:blip r:embed="rId2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9" descr="stress_test"/>
          <p:cNvPicPr/>
          <p:nvPr/>
        </p:nvPicPr>
        <p:blipFill>
          <a:blip r:embed="rId1"/>
          <a:stretch/>
        </p:blipFill>
        <p:spPr>
          <a:xfrm>
            <a:off x="4792680" y="2066760"/>
            <a:ext cx="4000320" cy="40006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ECG in diagnosis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63400" y="784080"/>
            <a:ext cx="783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ECGs are used to diagnose problems with the heart, as variations in different components of the trace can indicate a disease or other abnormality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63400" y="2313000"/>
            <a:ext cx="394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n ECG may be taken while the patient is relaxed or it may be taken before, during and after exercis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06" name="Picture 10" descr="notes_icon"/>
          <p:cNvPicPr/>
          <p:nvPr/>
        </p:nvPicPr>
        <p:blipFill>
          <a:blip r:embed="rId2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563400" y="4206960"/>
            <a:ext cx="394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is is called a ‘stress test’ and usually involves the patient exercising on a treadmill while attached to an ECG machine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208" name="Picture 12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Abnormal ECGs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210" name="Picture 5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notes_icon"/>
          <p:cNvPicPr/>
          <p:nvPr/>
        </p:nvPicPr>
        <p:blipFill>
          <a:blip r:embed="rId3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13"/>
          <p:cNvSpPr/>
          <p:nvPr/>
        </p:nvSpPr>
        <p:spPr>
          <a:xfrm>
            <a:off x="8393040" y="6140520"/>
            <a:ext cx="728640" cy="595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graphicFrame>
        <p:nvGraphicFramePr>
          <p:cNvPr id="214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4600" y="100008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0bc45"/>
                </a:solidFill>
                <a:latin typeface="Arial"/>
              </a:rPr>
              <a:t>STARTER:  </a:t>
            </a:r>
            <a:r>
              <a:rPr b="1" lang="en-US" sz="2500" spc="-1" strike="noStrike">
                <a:solidFill>
                  <a:srgbClr val="00b050"/>
                </a:solidFill>
                <a:latin typeface="Arial"/>
              </a:rPr>
              <a:t>Label </a:t>
            </a:r>
            <a:r>
              <a:rPr b="1" lang="en-US" sz="2500" spc="-1" strike="noStrike">
                <a:solidFill>
                  <a:srgbClr val="10bc45"/>
                </a:solidFill>
                <a:latin typeface="Arial"/>
              </a:rPr>
              <a:t>the heart diagram and complete functions of the heart</a:t>
            </a:r>
            <a:endParaRPr b="1" lang="en-US" sz="25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33526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1311120" y="603360"/>
            <a:ext cx="652176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50760" y="880920"/>
            <a:ext cx="7242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JzJKvkWWDc</a:t>
            </a:r>
            <a:endParaRPr b="1" lang="en-US" sz="25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t down key ideas from the Bozeman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The cardiac cycle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39" name="Picture 1028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9" descr="notes_icon"/>
          <p:cNvPicPr/>
          <p:nvPr/>
        </p:nvPicPr>
        <p:blipFill>
          <a:blip r:embed="rId2"/>
          <a:stretch/>
        </p:blipFill>
        <p:spPr>
          <a:xfrm>
            <a:off x="6973920" y="150840"/>
            <a:ext cx="442800" cy="387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32" descr="forward_arrow_colour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ShockwaveFlash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Interactiv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45" name="Picture 4" descr="flash_icon"/>
          <p:cNvPicPr/>
          <p:nvPr/>
        </p:nvPicPr>
        <p:blipFill>
          <a:blip r:embed="rId1"/>
          <a:stretch/>
        </p:blipFill>
        <p:spPr>
          <a:xfrm>
            <a:off x="7451640" y="115920"/>
            <a:ext cx="385920" cy="43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ShockwaveFlash1"/>
          <p:cNvGraphicFramePr/>
          <p:nvPr/>
        </p:nvGraphicFramePr>
        <p:xfrm>
          <a:off x="212760" y="800280"/>
          <a:ext cx="869940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60" y="800280"/>
                    <a:ext cx="869940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Cardiac outpu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63400" y="78408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amount of blood pumped around the body is called 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cardiac output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, and depends on two factors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63400" y="3105000"/>
            <a:ext cx="822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10bc4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heart rat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the number of times the heart beats per minute. A typical value for an adult at rest is 70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bpm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563400" y="185256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500"/>
              </a:spcBef>
              <a:buClr>
                <a:srgbClr val="10bc4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stroke volum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the volume of blood pumped by the left ventricle in each heart beat. A typical value for an adult at rest is 75</a:t>
            </a:r>
            <a:r>
              <a:rPr b="0" lang="en-GB" sz="1000" spc="-1" strike="noStrike">
                <a:solidFill>
                  <a:srgbClr val="01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l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944640" y="4035600"/>
            <a:ext cx="7256520" cy="89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10b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111320" y="4255920"/>
            <a:ext cx="69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10066"/>
                </a:solidFill>
                <a:latin typeface="Arial"/>
              </a:rPr>
              <a:t>cardiac output  =  stroke volume  ×  heart rat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563400" y="5118120"/>
            <a:ext cx="79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A typical resting cardiac output is 4–6 litres per minute. This can rise to as much as 40 litres per minute in highly trained endurance athletes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56" name="Picture 13" descr="forward_arrow_colour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0bc45"/>
                </a:solidFill>
                <a:latin typeface="Arial"/>
              </a:rPr>
              <a:t>Pacemaker cells of th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563400" y="784080"/>
            <a:ext cx="822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The heart can beat without any input from the nervous system as longs as its cells stay alive. This is due to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myogenic contractio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63400" y="4950000"/>
            <a:ext cx="85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Depolarization is initiated in a region of the heart called 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sinoatrial node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(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SAN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– also known as th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pacemaker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– which is in the wall of the right atrium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63400" y="2684520"/>
            <a:ext cx="822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Muscle cells (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myocytes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) in the heart have a slight electrical charge across their membrane. They ar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polarize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 When the charge is reversed, they are said to be </a:t>
            </a:r>
            <a:r>
              <a:rPr b="1" lang="en-GB" sz="2400" spc="-1" strike="noStrike">
                <a:solidFill>
                  <a:srgbClr val="10bc45"/>
                </a:solidFill>
                <a:latin typeface="Arial"/>
              </a:rPr>
              <a:t>depolarized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 and this causes them to contract.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  <p:pic>
        <p:nvPicPr>
          <p:cNvPr id="161" name="Picture 7" descr="notes_icon"/>
          <p:cNvPicPr/>
          <p:nvPr/>
        </p:nvPicPr>
        <p:blipFill>
          <a:blip r:embed="rId1"/>
          <a:stretch/>
        </p:blipFill>
        <p:spPr>
          <a:xfrm>
            <a:off x="7443720" y="150840"/>
            <a:ext cx="443160" cy="387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forward_arrow_colour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47040" y="6167520"/>
            <a:ext cx="6303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1760" y="54000"/>
            <a:ext cx="7240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bc45"/>
                </a:solidFill>
                <a:latin typeface="Arial"/>
              </a:rPr>
              <a:t>Electrical conducting system in the heart</a:t>
            </a:r>
            <a:endParaRPr b="1" lang="en-US" sz="2800" spc="-1" strike="noStrike">
              <a:solidFill>
                <a:srgbClr val="10bc45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96720" y="118584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6804000" y="1557360"/>
            <a:ext cx="19447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ords to listen for: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Sino-Atrial Node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Action potential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Purkinje fibres</a:t>
            </a:r>
            <a:endParaRPr b="0" lang="en-US" sz="2400" spc="-1" strike="noStrike">
              <a:solidFill>
                <a:srgbClr val="01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7:39:42Z</dcterms:created>
  <dc:creator>Boardworks Ltd</dc:creator>
  <dc:description/>
  <dc:language>en-US</dc:language>
  <cp:lastModifiedBy>Biology</cp:lastModifiedBy>
  <dcterms:modified xsi:type="dcterms:W3CDTF">2015-02-06T17:46:10Z</dcterms:modified>
  <cp:revision>749</cp:revision>
  <dc:subject>AS Biology</dc:subject>
  <dc:title>The Heart</dc:title>
</cp:coreProperties>
</file>